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D70-5AEE-4F92-A3E1-ECC04F5E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F9C-CAB6-46CB-AB7D-020924C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60A-650B-4DB1-B255-70A3DA70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E51-3D60-4B47-B322-9A3DEA35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CD2-E81F-482B-85FA-65B243C1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5EC8-58AD-4371-9628-C6775DE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3509-8AD0-49FB-B239-16C4BF92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8B2-D499-4AE9-AF5A-6429F11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DBB-74D0-4928-969F-1B93C8B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6795-C75C-42FF-B3AA-918614F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A34F-1DBA-4E80-ABC1-EC4AFE4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D00-E3E8-4658-B913-D8343FD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457-C7CF-4965-B82B-CD2D743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24E4-FE7A-4F87-9C65-833DF9E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F44-0B68-4E39-A8F6-DD270FE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7B50-6C64-4D50-8DB3-1DB9F1C2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FF1A-9C9A-4220-BB26-AF2EC2E3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F0A-13FD-466D-A1B6-BF4CBE2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A24-2ECB-4AA3-A653-CB34304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956-160B-4FD8-BBE9-54CA3B8B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1D8-5716-4705-8283-E6D5201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E90-B196-46B3-9A3E-1B7DB6E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FD7-279F-40C4-A92D-C02E2EE1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468-1D2A-4ED1-9215-EB7B3B4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1030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1031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1032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1033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91F-8EF3-4B4C-AC45-DD74F2DFC506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AD9D-28C9-450C-8E62-365E5155D43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ot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marks are put around the beginning and the end of the exact words a person s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the door open,” Mom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sked, “Where are you going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the store,” explained M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houted, “Wait for m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 Ralp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ake a right turn at the pond,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Ralph sai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Quotation Marks Go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Where are my new jea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vid asked,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ere are my new jeans?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6:13:23Z</dcterms:created>
  <dc:creator>GCSD</dc:creator>
  <dc:description/>
  <dc:language>en-US</dc:language>
  <cp:lastModifiedBy>Teacher</cp:lastModifiedBy>
  <dcterms:modified xsi:type="dcterms:W3CDTF">2012-03-25T21:31:03Z</dcterms:modified>
  <cp:revision>3</cp:revision>
  <dc:subject/>
  <dc:title>Quotation Marks</dc:title>
</cp:coreProperties>
</file>